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37E-CAFD-4130-A17A-CCA8A446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087-FCC3-4284-BFD6-B82DC46F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F9B-867A-484B-801A-9FB31E94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BBD-05FA-4C81-8BFF-599F6B3E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CD5F-CB0B-4D85-A98A-06F8A0C6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CA83-7577-4D3B-8DE3-7F2C05A1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19A8-98F3-4A4F-8AC3-997B1347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1BF0-0BB4-447D-BD13-CD687FB3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43FB-6CA4-4751-9124-9FD17131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8226360" cy="63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00D5-4A7E-4835-A360-A89D0733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0F49-3D72-4C43-BA23-99CF37B8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F6B-6B5B-4F47-9CBE-4749C046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2851-9996-4F08-87C9-6BE44BE3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3AC9-382B-46BA-88D3-4DDBC3C8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459C-2199-462F-B09A-E2D75D2B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82BC-A078-4685-ABDB-5E405608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ECFC-6B2F-4CC6-BCC9-85A73EF5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F351-B243-4AFF-BEF1-C75F7F41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460-97EE-42F9-A959-A5D7A0A9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1DB-EAE0-448C-BC14-1174A6BC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8226360" cy="63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8F0-F5CA-4A9B-92F8-27B8745B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1DE-CA26-4B33-857E-C0B2BCDF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C86-6AFA-4799-97EC-3AB7627D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67B-FC9B-4635-B9CA-2A6D0D80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1BDEA-346C-41E5-AF23-0994B69F78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C6BEB-4B05-4FD2-BDFD-C037E11F7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16200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ussia toda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: Marcus Johnson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t F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mmunism to a Free Enterprise Syste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 communism, the governme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led the economy of Russia. Government officials decided how much of something farmers should gro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all of communism had turned Russia’s economy upside dow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ussian government adopted a market economy or free enterprise syste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648320" y="2467080"/>
            <a:ext cx="4038480" cy="3141720"/>
            <a:chOff x="4648320" y="2467080"/>
            <a:chExt cx="4038480" cy="31417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4648320" y="2467080"/>
              <a:ext cx="4038480" cy="31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48320" y="2467080"/>
              <a:ext cx="4038480" cy="31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pros and cons of government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body had jo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had no freedom on what job they d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vernment had too much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free enterprise  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2940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People started and ran businesses with little or no government interrup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2940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Unicode MS"/>
              </a:rPr>
              <a:t>They may become unemploy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07Z</dcterms:created>
  <dc:creator> </dc:creator>
  <dc:description/>
  <dc:language>en-US</dc:language>
  <cp:lastModifiedBy> </cp:lastModifiedBy>
  <dcterms:modified xsi:type="dcterms:W3CDTF">2010-12-15T15:27:11Z</dcterms:modified>
  <cp:revision>3</cp:revision>
  <dc:subject/>
  <dc:title>Russia tod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